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E320-E284-47F3-BF8D-703334A68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14D7-018C-43F7-BA90-A32396DF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E866-E695-4FE7-B1ED-E373B02B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A13A-B055-44D4-A92A-DB2DFFE7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DB74-20AB-4238-8AB3-F3AB79E8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2B22-E644-4F8D-B2C1-F51FF554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791B-3905-4AD0-B020-AB6C9CC2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A176-714A-45E4-8A14-DF2A8FF7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6B6E-C1BB-40D4-9BDE-D2DA0EA3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EF6C-EE86-4DB4-AC05-E3713E50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2661-0DED-4C1A-B501-405D79E68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627F-FAAE-4D62-986B-746435F5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6E38-BE40-4C0D-9A97-604112863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9200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ractical SAT Solving: Achievements, Problems, Opportunitie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03280" y="2205000"/>
            <a:ext cx="662472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1. Modern resolution based SAT-solvers. What are they “made of”? Why do they work so wel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2. Linear size resolution proofs that can not be found efficiently (equivalence checking of combinational circuit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3. Testing the satisfiability of a formula by computing a stable set of poi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Reducing Circuit Satisfiability to S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0360" y="1590840"/>
            <a:ext cx="3352680" cy="134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75280" y="3156120"/>
            <a:ext cx="3241800" cy="17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~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~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~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~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74160" y="144612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43680" y="5334120"/>
            <a:ext cx="3745800" cy="87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,   C =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3936960" y="3639600"/>
            <a:ext cx="533160" cy="457200"/>
          </a:xfrm>
          <a:prstGeom prst="flowChartDelay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51440" y="4135320"/>
            <a:ext cx="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56000" y="4135320"/>
            <a:ext cx="22068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28160" y="430056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82360" y="430056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92760" y="3689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78160" y="3365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61640" y="314964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03640" y="3030480"/>
            <a:ext cx="367200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8000" y="1557360"/>
          <a:ext cx="3143160" cy="48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557360"/>
                    <a:ext cx="314316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Universality Also Causes Problems 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58920" y="191628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a practical viewpoint, the most  attractive property of SAT is it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univers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32000" y="5084640"/>
            <a:ext cx="68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as usual, “a sin” (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efficiency of S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 just an extension of “a virtue” (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universality of S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2924280"/>
            <a:ext cx="648036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a theoretical viewpoint, universality of SAT is the “cause” of its complexity  (e.g. one can describe the behavior of a  non-deterministic Turing machine by a set of clauses (Cook’s theorem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ummary (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e are here 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04880" y="1647720"/>
            <a:ext cx="636444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P, DPLL and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olution Proof System (RP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heoretical Results About R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R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 SAT-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Resolution Operation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1268280"/>
            <a:ext cx="8064720" cy="23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~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lauses having exactly one pair of opposite lit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ol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tained by resolv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variab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16000" y="3716280"/>
            <a:ext cx="7056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said to be obtained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by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olution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43440" y="4743360"/>
            <a:ext cx="62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property of the resolution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7560" y="5229360"/>
            <a:ext cx="797184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2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satisfied, the resolvent is satisfied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4724280"/>
            <a:ext cx="79912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Resolution Operation (continued)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1268280"/>
            <a:ext cx="7435800" cy="124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more than one pair of clashing literals or do not have clashing literals at all, potential resolvents are “trivi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2920" y="2871720"/>
            <a:ext cx="7704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~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~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By resolv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variab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e obtain a tautologous cla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~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3816360"/>
            <a:ext cx="6932520" cy="129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no clashing literals one can only produce a trivial clause  impli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par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5415120"/>
            <a:ext cx="7705800" cy="11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. No variable to resolve in. By combining the literals of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e obtain  cla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ie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par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67280" y="2565360"/>
            <a:ext cx="215640" cy="287280"/>
          </a:xfrm>
          <a:prstGeom prst="downArrow">
            <a:avLst>
              <a:gd name="adj1" fmla="val 50000"/>
              <a:gd name="adj2" fmla="val 33306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67280" y="5157720"/>
            <a:ext cx="215640" cy="287280"/>
          </a:xfrm>
          <a:prstGeom prst="downArrow">
            <a:avLst>
              <a:gd name="adj1" fmla="val 50000"/>
              <a:gd name="adj2" fmla="val 33306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Resolution Proof System (RPS)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19240" y="1341360"/>
            <a:ext cx="71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for first-order logic by A.Robinson (196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39840" y="2079720"/>
            <a:ext cx="7219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PS consists only of the resolution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299736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CNF formul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proof of unsatisfiability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 RPS is a sequence of resolution operations resulting in derivation of an empty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16000" y="450864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equence is called a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olution pro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unsatisfiability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Exampl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30800" y="1413000"/>
            <a:ext cx="417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98360" y="2362320"/>
            <a:ext cx="5895000" cy="100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resolving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and (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 produce the clause 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08000" y="3573360"/>
            <a:ext cx="5977080" cy="87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resolving 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 produ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mpty clau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16200" y="4743360"/>
            <a:ext cx="61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olution proof above consists of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wo resolution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Resolution Graph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09480" y="241920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62200" y="2419200"/>
            <a:ext cx="43164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49920" y="239544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2997360"/>
            <a:ext cx="86364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2960" y="2970360"/>
            <a:ext cx="51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69840" y="1916280"/>
            <a:ext cx="93672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06360" y="1962000"/>
            <a:ext cx="39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62200" y="2995560"/>
            <a:ext cx="93672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97200" y="2995560"/>
            <a:ext cx="61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54200" y="3500280"/>
            <a:ext cx="36036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1545840" y="3500280"/>
            <a:ext cx="35892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96760" y="4005360"/>
            <a:ext cx="11527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11280" y="4003560"/>
            <a:ext cx="129564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24560" y="4005360"/>
            <a:ext cx="96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49800" y="4003560"/>
            <a:ext cx="1142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~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58120" y="350028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1628640"/>
            <a:ext cx="49942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tangles are original cl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als are resol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in which clauses are resolved ar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hown in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27280" y="4905360"/>
            <a:ext cx="59515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a resolution graph is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ecial case of RPS, is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ree-like R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esolution graph is a tr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RPS Is Sound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16000" y="1989000"/>
            <a:ext cx="727236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PS is sound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olven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mpli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ince an empty clause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is deduced from clauses of 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nd their descendants) only by resolution operations, then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is implied by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n empty clause can not be satisfied, t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satisf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RPS Is Complet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03280" y="157464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n unsatisfiable formul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ne can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e its unsatisfiability by building a binary search 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76360" y="450864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inary search tree can be simulated by a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ree-like RP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 special case of RPS).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for any unsatisfiable formula there is  a proof in R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3068640"/>
            <a:ext cx="65516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of this tree are assigned variable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were split on, leaves are assigned clauses that were falsified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ummary (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e are here 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04160" y="1647720"/>
            <a:ext cx="617868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 Satisfiability Problem (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SAT in Such High Dema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, DPLL and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 SAT-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ummary (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e are here 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04880" y="1647720"/>
            <a:ext cx="636444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P, DPLL and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tion Proof System (R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P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heoretical Results About R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R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 SAT-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Existential Quantification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1557360"/>
            <a:ext cx="7848360" cy="237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be a Boolean func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...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...)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...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,…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...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,…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xistential quan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variab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4508640"/>
            <a:ext cx="7777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1 iff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 That is func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 satisfiable if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satisf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Davis-Puttnam Procedur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5640" y="1484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in 1960 (5 years before Robinson’s resolu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5640" y="2133720"/>
            <a:ext cx="7254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a CNF formula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..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be its set of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00000" y="321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56000" y="3279600"/>
            <a:ext cx="5256000" cy="269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is not emp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pick_variable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\  {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existentially_quantify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0) return (‘unsatisfiabl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1 ) return (‘satisfiabl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Quantification of CNF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16000" y="1263600"/>
            <a:ext cx="7416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be a CNF formula.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~x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sists of  the clause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dependent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 respectively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~x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onsists of the clause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ving litera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respectively ~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2852640"/>
            <a:ext cx="7993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.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,…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...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,…)  =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~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~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6920" y="3500280"/>
            <a:ext cx="784872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(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98000" y="4226040"/>
            <a:ext cx="60048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~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64320" y="4869000"/>
            <a:ext cx="470880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~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Davis and Puttnam Procedure in Terms of Resolution 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2205000"/>
            <a:ext cx="8064360" cy="336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is not emp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pick_variable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\  {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add_resolvents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//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lve the clauses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rem_clauses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} //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ve the clauses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 variabl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= 0) return (‘unsatisfiabl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= 1 ) return (‘satisfiabl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P Procedure Generates Huge Number of Clauses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187280" y="5446800"/>
          <a:ext cx="7129800" cy="934920"/>
        </p:xfrm>
        <a:graphic>
          <a:graphicData uri="http://schemas.openxmlformats.org/drawingml/2006/table">
            <a:tbl>
              <a:tblPr/>
              <a:tblGrid>
                <a:gridCol w="1184400"/>
                <a:gridCol w="666720"/>
                <a:gridCol w="741600"/>
                <a:gridCol w="863280"/>
                <a:gridCol w="865440"/>
                <a:gridCol w="900000"/>
                <a:gridCol w="755640"/>
                <a:gridCol w="647640"/>
                <a:gridCol w="505080"/>
              </a:tblGrid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i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nf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0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4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1249200" y="5014800"/>
            <a:ext cx="686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at CNF formula, 35 variables, 42 clauses, time=4585.6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187280" y="1940040"/>
          <a:ext cx="6697440" cy="914400"/>
        </p:xfrm>
        <a:graphic>
          <a:graphicData uri="http://schemas.openxmlformats.org/drawingml/2006/table">
            <a:tbl>
              <a:tblPr/>
              <a:tblGrid>
                <a:gridCol w="1002960"/>
                <a:gridCol w="561600"/>
                <a:gridCol w="560160"/>
                <a:gridCol w="561960"/>
                <a:gridCol w="560160"/>
                <a:gridCol w="561600"/>
                <a:gridCol w="560160"/>
                <a:gridCol w="560160"/>
                <a:gridCol w="563400"/>
                <a:gridCol w="560160"/>
                <a:gridCol w="6451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i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nf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1249560" y="1414440"/>
            <a:ext cx="651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at CNF formula, 20 variables, 85 clauses, time=0.2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06720" y="3141720"/>
            <a:ext cx="651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at CNF formula, 30 variables, 127 clauses,time=9.1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187280" y="3502080"/>
          <a:ext cx="7081920" cy="1120680"/>
        </p:xfrm>
        <a:graphic>
          <a:graphicData uri="http://schemas.openxmlformats.org/drawingml/2006/table">
            <a:tbl>
              <a:tblPr/>
              <a:tblGrid>
                <a:gridCol w="1033560"/>
                <a:gridCol w="582480"/>
                <a:gridCol w="576360"/>
                <a:gridCol w="689040"/>
                <a:gridCol w="647640"/>
                <a:gridCol w="647640"/>
                <a:gridCol w="649080"/>
                <a:gridCol w="574920"/>
                <a:gridCol w="576360"/>
                <a:gridCol w="438120"/>
                <a:gridCol w="666720"/>
              </a:tblGrid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i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nf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ummary (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e are here 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76320" y="1268280"/>
            <a:ext cx="636444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, DPLL and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tion Proof System (RP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heoretical Results About R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R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 SAT-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Restriction of CNF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1413000"/>
            <a:ext cx="772452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 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an assignment (partial or complete) to variable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ote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CNF formula obtained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ing all the clause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are satisfi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ing from the unsatisfied clause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 the literals that are set to 0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said to be the formul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tric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y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or just a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tri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sh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DPLL procedur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235920" y="1125360"/>
            <a:ext cx="2635920" cy="90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s, Logeman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veland 196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9640" y="2467080"/>
            <a:ext cx="7056720" cy="445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P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if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tisfi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turn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‘sat’,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ure_lit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    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pply_the_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it_clau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  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n_BC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lsifi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return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‘unsat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ck_vari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)} 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P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) =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‘unsat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P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) =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‘unsat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‘unsat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return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‘sat’,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8960" y="1263600"/>
            <a:ext cx="4253040" cy="11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Return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‘sat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satisf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Returns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‘unsat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unsatisf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Initiall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Exampl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99040" y="1211400"/>
            <a:ext cx="591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626920" y="2708280"/>
            <a:ext cx="79236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67280" y="2708280"/>
            <a:ext cx="108108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00000" y="2997360"/>
            <a:ext cx="2089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{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)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~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11280" y="1989000"/>
            <a:ext cx="3456000" cy="78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ck_assign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ke_assign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73080" y="4797360"/>
            <a:ext cx="2951280" cy="107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n_BC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pro-duces a falsified cl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PLL returns ‘unsat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2997360"/>
            <a:ext cx="2089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{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)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~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797360"/>
            <a:ext cx="2951280" cy="107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n_BC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pro-duces a falsified cl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PLL returns ‘unsat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Literal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76360" y="2060640"/>
            <a:ext cx="684216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Boolean function of one Boolean vari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dentity function of a variab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led the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ositive lit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enoted just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gation function of a variab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egative lit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enoted by 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Pure Literal Rul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47640" y="1341360"/>
            <a:ext cx="6069240" cy="170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..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be a CNF formula. Suppose that no claus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the negative literal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(That is if a claus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a literal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is always positiv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76360" y="4176720"/>
            <a:ext cx="7153200" cy="129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current CNF formula has literals of only one polarity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ne can s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value satisfying the clauses having literal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73920" y="3068640"/>
            <a:ext cx="666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,..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=0 impli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,..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=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50880" y="364500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ure literal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03800" y="5464080"/>
            <a:ext cx="51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arely used in current SAT-solv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Boolean Constraint Propagation (BCP)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32000" y="148428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current CNF formlula has a unit cla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t can only be satisfied by setting the only literal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720520" y="2852640"/>
            <a:ext cx="4902840" cy="314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n_BC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while (succ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cess 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very unsat cla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if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mp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return ‘unsat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success 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ke_assign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}}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Exampl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53760" y="1211400"/>
            <a:ext cx="67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94280" y="1839960"/>
            <a:ext cx="533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{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)}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42920" y="3429000"/>
            <a:ext cx="7580520" cy="284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ing assignm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 to satisfy unit cla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{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),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)},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Making assignm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 to satisfy cla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{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),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),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)}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Sin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s an empty clause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n_BC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returns ‘unsa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160" y="2583000"/>
            <a:ext cx="33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n_BC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DPLL and Tree-like RPS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59280" y="1216080"/>
            <a:ext cx="3889440" cy="50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satisfiable formulas, pure literal rule can be ign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isfying a unit clause can be represented as branching with an immediate conflict in one bran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of generated by DPLL can be represented as a binary search t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leaf of this tree corre-sponds to a falsified cl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rresponding resolution proof is obtained by resolving clauses in branching variables moving from leaves to the 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340000" y="1484280"/>
            <a:ext cx="79200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48800" y="160344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197080" y="2133720"/>
            <a:ext cx="28728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987640" y="2133720"/>
            <a:ext cx="360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41800" y="2108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61080" y="2108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63640" y="2708280"/>
            <a:ext cx="792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72440" y="282744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11280" y="3357720"/>
            <a:ext cx="433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620720" y="3357720"/>
            <a:ext cx="28728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89080" y="3932280"/>
            <a:ext cx="79200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97520" y="405144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044720" y="4581360"/>
            <a:ext cx="28728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36720" y="458136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2720" y="5157720"/>
            <a:ext cx="122544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65800" y="3332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60720" y="458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66920" y="5157720"/>
            <a:ext cx="201780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~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59200" y="4556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0920" y="3394080"/>
            <a:ext cx="122544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~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11280" y="3825720"/>
            <a:ext cx="122580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57800" y="3259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92360" y="2060640"/>
            <a:ext cx="5047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ummary (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e are here 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76320" y="1268280"/>
            <a:ext cx="636444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P, DPLL and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tion Proof System (R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ome Theoretical Results About R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R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 SAT-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xponential Lower Bounds of Resolu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26920" y="1844640"/>
            <a:ext cx="7293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68, Tseitin proved superpolynomial lower bound for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gular R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 regular R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ly one variable is resolved along any path from a source to the sink of the resolution grap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 He used CNF formulas capturing the fact that for any graph the sum of degrees of the vertexes is ev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6920" y="3933720"/>
            <a:ext cx="73454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85, Haken proved superpolynomial lower bound for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He used CNF formulas capturing the pigeon-hole principle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1 pigeons can not be allocated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les so that no two pigeons share a ho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hort Proofs in RPS Are “Narrow”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00000" y="1268280"/>
            <a:ext cx="743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 class of unsatisfiable CNF formulas. Suppose the length (number of literals) of each clause of a CN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limited by a const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42920" y="4581360"/>
            <a:ext cx="678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o show that a class of formulas (consisting of clauses of bounded length) has only superpolynomial proofs in RPS, it suffices to show that in any resolution proof a “long” resolvent will be gener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71640" y="2565360"/>
            <a:ext cx="700560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id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pro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unsatisfiable is the length of the longest clause appear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Ben Sasson and  Wigderson showed in 1999 that  if CNFs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ve polynomial proofs in RPS, there always exist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arrow proof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width bounde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q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xponential Separation of Tree-like RPS and RP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92360" y="1676520"/>
            <a:ext cx="51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et,Esteban,Galesi,Johansen 1998, Ben-Sasson,Impagliazzo,Wigderson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87280" y="2421000"/>
            <a:ext cx="678816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 separation of tree-like RPS and RPS. There exists a class of CNF formulas with polynomial (actually linear) proofs in RPS  and exponential proofs in tree-like R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44040" y="4682160"/>
            <a:ext cx="35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khnovich, Johannsen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41280" y="5229360"/>
            <a:ext cx="707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 separation of regular RPS and R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ummary (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e are here 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76320" y="1268280"/>
            <a:ext cx="636444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P, DPLL and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tion Proof System (RP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heoretical Results About R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xtended R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 SAT-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Extension Rul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87280" y="1305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RPS i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tion operation” + “extension rule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e extension rule was introduced by Tseitin in 196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39840" y="4502160"/>
            <a:ext cx="6932520" cy="18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that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n new variab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introduced by adding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he following three clau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~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~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), (~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), (~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32000" y="2946240"/>
            <a:ext cx="6789600" cy="160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be a CNF formula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..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n extension r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o introduce a new variable: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 variab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troduced as a set of clau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ause, CNF Formula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781360" y="1846440"/>
          <a:ext cx="2371680" cy="1800000"/>
        </p:xfrm>
        <a:graphic>
          <a:graphicData uri="http://schemas.openxmlformats.org/drawingml/2006/table">
            <a:tbl>
              <a:tblPr/>
              <a:tblGrid>
                <a:gridCol w="790560"/>
                <a:gridCol w="790560"/>
                <a:gridCol w="79056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2781360" y="1846440"/>
            <a:ext cx="772920" cy="62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46560" y="1989000"/>
            <a:ext cx="110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36720" y="1747800"/>
            <a:ext cx="116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51680" y="1139760"/>
            <a:ext cx="99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0920" y="1876320"/>
            <a:ext cx="2361600" cy="90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98560" y="5156280"/>
            <a:ext cx="7561080" cy="95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 CNF formu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njunction of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872320" y="1832040"/>
          <a:ext cx="2371680" cy="1800000"/>
        </p:xfrm>
        <a:graphic>
          <a:graphicData uri="http://schemas.openxmlformats.org/drawingml/2006/table">
            <a:tbl>
              <a:tblPr/>
              <a:tblGrid>
                <a:gridCol w="790560"/>
                <a:gridCol w="790560"/>
                <a:gridCol w="79056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5872320" y="1832040"/>
            <a:ext cx="772920" cy="62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37520" y="1974960"/>
            <a:ext cx="110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27680" y="1733400"/>
            <a:ext cx="116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42280" y="1125360"/>
            <a:ext cx="99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98560" y="4076640"/>
            <a:ext cx="741672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sjunction of literals is calle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 cla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Power of Extended RPS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26920" y="134136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RPS is a powerful proof system. (In contrast to RPS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t is not broken y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26920" y="2852640"/>
            <a:ext cx="7632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t has even more non-determinism than   RPS.  In RPS  the main source of non-determinism is in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icking a pair of clauses to resol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79480" y="4672080"/>
            <a:ext cx="743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tension rule adds one more powerful source of non-determinism: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icking a  new variable to ad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 building a SAT-solver based on extended resolution is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Introduction of New Variables in SAT-algorithm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26920" y="1628640"/>
            <a:ext cx="79930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AT-algorithms (Stalmarck algorithm, eqsatz (Chu Min LI)) us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quality reaso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exploring branch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6920" y="3173400"/>
            <a:ext cx="7940880" cy="87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be simulated as exploring branch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new variable: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26920" y="416736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of these new variables leads to performance improvement on  some classes of formulas. However, unless there is some information about the formula to be solved,  using new variables is a gamb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Proof System Automatizability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00000" y="1197000"/>
            <a:ext cx="7940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lly, a proof system i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utomatiz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there is an efficient algorithm for finding “good” proofs in this system (Bonet, Pitassi and Raz,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2421000"/>
            <a:ext cx="70567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reelike RPS and R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re most likely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on-automatizab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lekhnovich and Razborov, 20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00000" y="328464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rule of thum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more powerful a proof system is, the “less automatizable” it 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71640" y="4076640"/>
            <a:ext cx="73454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xtended R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exponentially more powerful than  RPS. RPS is exponentially more powerful than tree-like RP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71640" y="501480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uccessful resolution-based SAT-solvers are essentially based on tree-like RPS. Building a SAT-solver based on RPS (let alone extended RPS) is still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n open probl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ummary (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e are here 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66240" y="1268280"/>
            <a:ext cx="5627520" cy="52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, DPLL and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dern SAT-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Branch “Eliminati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chronological Backtra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Implic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lict Driven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 M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BCP, Restarts and Pre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Brief History of SAT-solving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(related to resolution)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28840" y="1773360"/>
            <a:ext cx="745488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ntial quantification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196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splitting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P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196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short clauses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cra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1988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ursive learning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nnib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1994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ality reasoning, learning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lmarck algorith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199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lict driven learn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s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199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Relsat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199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BCP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199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BCP, new decision making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20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decision making and other improvemen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rkM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20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improvemen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e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2003)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s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Local Search Algorithms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332000" y="1268280"/>
            <a:ext cx="664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mportant class of SAT-solvers are incomplete algorithms meant for solving only satisfiable formulas lik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S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992),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alks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994) and many othe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32000" y="2565360"/>
            <a:ext cx="676908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 CNF formula. A typical local search SAT-algorithm maintains a complete assignmen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 s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f  clause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alsified b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At every step such an algorithm tries to flip an assignment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reduce the number of falsified clau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32000" y="4383000"/>
            <a:ext cx="669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uch an assignment does not exist, typically, a random value (whose choice may be constrained by some heuristic) is flipped in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27320" y="5589720"/>
            <a:ext cx="63226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 this talk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cal search algorithms are not conside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 Typical Resolution-Based SAT-Solver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(no restarts or preprocessing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84360" y="1484280"/>
            <a:ext cx="82087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//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is the original CNF formula,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is solver’s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t_sol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while (true) {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// starting the main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BCP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= ‘conflict’) {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// a conflic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enerate_conflict_clause(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// learn a new cl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empty) return (‘unsat’);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// the learned clause is 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{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// C is not  emp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cktr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 } }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// Ad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to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and backtr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// no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_vars_assign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return(‘sat’);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// all vars are 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ke_assign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}}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// assign value to a free 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 Typical Resolution-Based SAT-Solver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(with preprocessing and restarts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4360" y="1700280"/>
            <a:ext cx="8208720" cy="41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//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is the original CNF formula,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is solver’s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_solver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eprocessing(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)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// learn some short clauses and/or remove v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true) {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// starting the main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f (a_condition_holds(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) restar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// time to make a re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BCP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= ‘conflict’)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// a conflic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make_assignment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}}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// assign value to a free 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What Is Different from DPLL?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1640" y="1844640"/>
            <a:ext cx="684036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eprocessing*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New implications may be added as “short” clauses. Some variables may be existentially removed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tart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condition is met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the number of conflicts  exceeds a threshold), a new search tree one is star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on-chronological Backtrack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backtracking a SAT-solver jumps over decision assignments that did not contribute to the last confl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What Is Different from DPLL?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(cont.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9640" y="1844640"/>
            <a:ext cx="74898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nflict clause generation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conflict occurs a new nontrivial implication is added to the current formu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ast BCP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pping clauses that can not be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cursion is not used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calling itself recursively, a SAT-solver maintains  a stack of decision lev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o right branch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ght branch assignment is derived from a conflict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More About Clauses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1484280"/>
            <a:ext cx="7489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ssume that a clause ha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t most one literal of a vari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1 (tautologous clau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3500280"/>
            <a:ext cx="74898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lause without literals is called an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mpty cla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Denote it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apital lambda). Clau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an not be satis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4967280"/>
            <a:ext cx="75614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lause with only one literal is called a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unit cla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nit clause can be satisfied only by setting its only literal t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Assignmen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39840" y="1725480"/>
            <a:ext cx="729288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a set of Boolean variab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 complete assig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variable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mapp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0,1}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pp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0,1}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led a partial assig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09440" y="4076640"/>
            <a:ext cx="7372800" cy="149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mplete assig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ial assig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atisfiability Problem (SAT)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2924280"/>
            <a:ext cx="684072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atisfiability probl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 as follows. Given a set of claus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ind an assignment satisfying every claus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nd so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or prove that such an assignment does not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1557360"/>
            <a:ext cx="714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lause i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atisfied (falsifie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an assignmen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= 1 (respectively 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58920" y="4869000"/>
            <a:ext cx="69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signment satisfying the clause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f any) is called a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atisfying assig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ummary (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e are here 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1647720"/>
            <a:ext cx="693252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tisfiability Problem (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hy Is SAT in Such High Dema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, DPLL and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 SAT-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92360" y="188640"/>
            <a:ext cx="59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Main Attractions of S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73422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ractical problems from various domains reduce  to S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gic synthesis, manufacturing test generation, model checking, circuit routing, equivalence checking, software verifi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d so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last  few years considerable progress has been m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AT-solvers can handle practical formulas with millions of variables and cl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2T03:54:10Z</dcterms:created>
  <dc:creator>administrator</dc:creator>
  <dc:description/>
  <dc:language>en-US</dc:language>
  <cp:lastModifiedBy>Eugene Goldberg</cp:lastModifiedBy>
  <dcterms:modified xsi:type="dcterms:W3CDTF">2006-11-03T12:52:57Z</dcterms:modified>
  <cp:revision>1819</cp:revision>
  <dc:subject/>
  <dc:title>PowerPoint Presentation</dc:title>
</cp:coreProperties>
</file>